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F9D7-1FD5-41DA-98E1-0754DD939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7E92-543B-46DC-9C73-6A68A9FD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6163-411E-4D8F-8873-A5F0A2CBF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5427-5048-4D81-B56C-A7EF5DB4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57AC-DB78-4A2C-80C4-B6A48135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6E41-B45B-4643-989E-17E03E34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3F17-6DAB-47E6-AF04-48677E6F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BF2F-6E69-4062-88B4-830DEB01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F394-A584-4734-99BC-0B615E0A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F930-669B-4A87-9F47-8B21FFC8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9DC4-6063-4A77-888E-9A596B98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9621-68F4-4978-A546-E3F8FE93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EBA9-7AE0-4999-88B9-6D8C3FE0CA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vel map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Kortney Sandahl &amp; Breahanna School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March Bash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o wrestling, Jap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wrestling with Japanese people the men would fight and invite people to watch them and cheer them u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would meet at the Osaka Municipal Gymnasium in Jap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atest sumo wrestlers in Japan were there to fight, the culture it fits in is athletic. Why it fits in the athletic culture is because it’s a spo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nh Tay Marke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arket sells fruit, vegetables, nuts, fish, meat and cigarettes, beer and clothes of every typ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in Vietnam, its culture is probably shopping. Why? Because you buy stuff and that’s what shopping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a pretty well good mar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16:14:54Z</dcterms:created>
  <dc:creator>Jefferson Elementary School</dc:creator>
  <dc:description/>
  <dc:language>en-US</dc:language>
  <cp:lastModifiedBy>Jefferson Elementary School</cp:lastModifiedBy>
  <dcterms:modified xsi:type="dcterms:W3CDTF">2012-03-01T17:30:21Z</dcterms:modified>
  <cp:revision>2</cp:revision>
  <dc:subject/>
  <dc:title> Travel map </dc:title>
</cp:coreProperties>
</file>